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23B4-0E00-4678-A7D5-C8D662A7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7154-E6CF-4372-BFAA-53125E22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86AA-B020-4724-8293-E60FAA7ED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0265-38AC-4620-BA93-A24D15E93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6AC8-43EA-49EC-B3CE-E44012FF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F13C-397F-4EC2-91FB-7E081805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B099-FAF5-4DDB-8498-C49FC253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DCCA-5926-4C9F-BB4D-AEF2563F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68FD-C019-4F55-B130-89BD2491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D5B3-E7C7-440E-8A86-F033F3D0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9450-D8D4-4A4D-82CD-A4344362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DBA1-57CE-4A03-A3EE-E4F86ADF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858F-6330-488F-ABCD-2C556E415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1125360"/>
            <a:ext cx="55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upuestos para Ministerios de la Muj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47640" y="2492280"/>
            <a:ext cx="67694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Linda de León y Lisa Rasmu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rso de liderazgo Ni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nisterios de la Mujer de la Asociación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56000" y="119700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ómo guardar reg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2421000"/>
            <a:ext cx="734544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a tu libro mayor – una hoja de papel para cada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hoja debería incluir el nombre del proyecto, número de cuenta (opcional) y fecha de in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16000" y="1628640"/>
            <a:ext cx="655308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a superior incluye: fecha, descripción, depósitos, (créditos) y gastos (débit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a el libro diario para entradas de todos los d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vez a la semana o al mes ingresa tus entradas al 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35280" y="27432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50911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85880"/>
                <a:gridCol w="1604880"/>
                <a:gridCol w="1646280"/>
              </a:tblGrid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Fec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Recur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Descrip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Créd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Déb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ndar án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res para Mar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1979640" y="189000"/>
            <a:ext cx="30970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bre de tu Igle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 núm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udad, código pos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h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ero 1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71640" y="1700280"/>
          <a:ext cx="7704000" cy="4270320"/>
        </p:xfrm>
        <a:graphic>
          <a:graphicData uri="http://schemas.openxmlformats.org/drawingml/2006/table">
            <a:tbl>
              <a:tblPr/>
              <a:tblGrid>
                <a:gridCol w="1657440"/>
                <a:gridCol w="3363840"/>
                <a:gridCol w="1293840"/>
                <a:gridCol w="13888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Descrip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Crédi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Débi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Ju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Flor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$105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Ju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Transferencia de fon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Ju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Artículos de almacé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368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Ju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Tot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$473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5651640" y="83664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0000" y="404640"/>
            <a:ext cx="302400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mbre de tu Igl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 núm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udad, código pos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mbre del proyecto: Brindar áni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úmero de cuenta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cha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16000" y="2133720"/>
            <a:ext cx="691200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orero de iglesia maneja las transacciones monet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da todos los reci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unas iglesias dan dinero antes, otras reembols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0360" y="765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sto de din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35280" y="2349360"/>
            <a:ext cx="46814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a gastos grandes informa al tesorero antes de ga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87280" y="1341360"/>
            <a:ext cx="712980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presupuesto de iglesia está basado en el tamaño de la iglesia y la benevolencia de sus miemb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ingreso de la iglesia local proviene del presupuesto de igl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diezmo no forma parte del presupuesto de iglesia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11280" y="47628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nzas de iglesias lo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68360" y="62064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lección de fo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1989000"/>
            <a:ext cx="58327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eces tu presupuesto no es el adecu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lección es una opción: pagarés, vender comida o artesanías, programa musical, lavar auto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340000" y="83664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s Inter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16000" y="2205000"/>
            <a:ext cx="7128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quea y balanc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egura respon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a pocas personas juntar o gastar di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87280" y="2060640"/>
            <a:ext cx="612144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ntrar errores de con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ene el sobre ga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ene el mal 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ce difícil el ro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35280" y="1773360"/>
            <a:ext cx="4824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ÍA ES LA PLATA, Y MÍO ES EL ORO, DICE JEHOVÁ DE LOS EJÉRCITOS.” Hageo 2:8 R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16000" y="1844640"/>
            <a:ext cx="741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que ¿Quién de vosotros, queriendo edificar una torre, no se sienta primero y calcula los gastos, a ver si tiene lo que necesita para acabarla? No sea que después que haya puesto el cimiento, y no pueda acabarla, todos los que lo vean comiencen a hacer burla de él, diciendo: Este hombre comenzó a edificar, y no pudo acabar” Luke 14:28-30 (RV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24000" y="119700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ósito de un presupu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7842240" y="2921040"/>
            <a:ext cx="6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2565360"/>
            <a:ext cx="7200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egura que las entradas suplirán las necesi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reflejar la misión de tus Ministerios de la Muj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anticipar problemas financieros futuros y realizar aju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rve de motivación para alcanzar tus 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ayudar a controlar tus gast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771640" y="907920"/>
            <a:ext cx="52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os para establecer el tamaño de tu presupu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781360"/>
            <a:ext cx="5041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 una lista de tus obje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ta al tesor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a los gastos y entradas del pas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7280" y="1341360"/>
            <a:ext cx="72010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 una lista de tus gastos e ingr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upueste para lo inespe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 tus gastos no superen tus ingr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 tu presupuesto para recibir aprob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úa tu rendimiento al finalizar el a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84360" y="14130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ápiz o comput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32000" y="2421000"/>
            <a:ext cx="532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ienza la planificación de tu presupuesto con papel y láp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 una lista de ideas y gastos aproxim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32000" y="1700280"/>
            <a:ext cx="460836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no tienes computadora utiliza un libro diario y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yuda utilizar un programa de computadora de hojas de cálculo. Ej. 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8T12:12:30Z</dcterms:created>
  <dc:creator>Sede Administrativa</dc:creator>
  <dc:description/>
  <dc:language>en-US</dc:language>
  <cp:lastModifiedBy>Sede Administrativa</cp:lastModifiedBy>
  <dcterms:modified xsi:type="dcterms:W3CDTF">2005-06-15T18:58:23Z</dcterms:modified>
  <cp:revision>6</cp:revision>
  <dc:subject/>
  <dc:title>Slide 1</dc:title>
</cp:coreProperties>
</file>